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968-0F40-41F6-B295-81BBD1C2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962-05D0-4D28-B865-19FC585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D17-6A79-44A0-BF5A-7487B876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2F5-DECC-4635-9F18-897CE931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592-3933-46B6-A18E-B3F9123B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DEE-C7DC-4BFE-B3F1-1C1B7BC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779-B1D7-4890-A7DF-A5167AFC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586-3057-4958-9E62-9223D24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1CD-D220-4AC6-B49F-7EF4785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2F7-CD1F-4E00-B5CD-C64B17B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8F7-B126-43E1-9887-888BF31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E2B-ACFC-4657-A438-C85652F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369-A239-4710-B1AD-A1B5090C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609480" y="4645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(Access Point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396200" y="4707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84480" y="5164200"/>
            <a:ext cx="297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 Mode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: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: 192.168.1.25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: Server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870880" y="5164200"/>
            <a:ext cx="297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 Mode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: Clie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: 192.168.1.253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: Disable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590920" y="37926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76520" y="44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Link CPE PL-CPE-22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to 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7" name="Picture 12" descr="C:\Users\Luke\Documents\My Web Sites\premiertek\pictures\PowerLink-PL-CPE-N\PL-CPE-22N_S.jpg"/>
          <p:cNvPicPr/>
          <p:nvPr/>
        </p:nvPicPr>
        <p:blipFill>
          <a:blip r:embed="rId1"/>
          <a:stretch/>
        </p:blipFill>
        <p:spPr>
          <a:xfrm>
            <a:off x="6934320" y="2819520"/>
            <a:ext cx="152388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:\Users\Luke\Documents\My Web Sites\premiertek\pictures\PowerLink-PL-CPE-N\PL-CPE-22N_S.jpg"/>
          <p:cNvPicPr/>
          <p:nvPr/>
        </p:nvPicPr>
        <p:blipFill>
          <a:blip r:embed="rId2"/>
          <a:stretch/>
        </p:blipFill>
        <p:spPr>
          <a:xfrm>
            <a:off x="762120" y="2819520"/>
            <a:ext cx="15238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0" t="14423" r="50588" b="13343"/>
          <a:stretch/>
        </p:blipFill>
        <p:spPr>
          <a:xfrm>
            <a:off x="1295280" y="1447920"/>
            <a:ext cx="6581880" cy="5225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523880" y="3352680"/>
            <a:ext cx="10670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238880" y="3733920"/>
            <a:ext cx="45720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6200" y="6324480"/>
            <a:ext cx="7621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81240" y="3008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088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. Refresh to find surrounding AP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048120" y="6324480"/>
            <a:ext cx="7617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52680" y="2787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7. Select the name of the AP appears under SS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638680" y="60199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. Click Connect once you have selected the AP you wish to connect,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490920" y="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14423" r="45900" b="16578"/>
          <a:stretch/>
        </p:blipFill>
        <p:spPr>
          <a:xfrm>
            <a:off x="914400" y="1523880"/>
            <a:ext cx="703908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031760" y="2500200"/>
            <a:ext cx="1371600" cy="23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971800" y="3962520"/>
            <a:ext cx="10666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819520" y="5943600"/>
            <a:ext cx="12189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13516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97360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45000" y="5562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465720" y="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0" t="14423" r="50588" b="9033"/>
          <a:stretch/>
        </p:blipFill>
        <p:spPr>
          <a:xfrm>
            <a:off x="1219320" y="1447920"/>
            <a:ext cx="6429240" cy="5410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447920" y="2590920"/>
            <a:ext cx="1143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048120" y="340056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048120" y="3886200"/>
            <a:ext cx="32763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971800" y="6477120"/>
            <a:ext cx="1066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50056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09588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 Select AP Mod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095880" y="40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 Create your AP nam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751120" y="6172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66080" y="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4423" r="54686" b="34908"/>
          <a:stretch/>
        </p:blipFill>
        <p:spPr>
          <a:xfrm>
            <a:off x="685800" y="1600200"/>
            <a:ext cx="7543800" cy="4583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161440" y="63612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skip this page if you don’t need to set up encryp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066680" y="3505320"/>
            <a:ext cx="10670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505320" y="3962520"/>
            <a:ext cx="2666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505320" y="5334120"/>
            <a:ext cx="4343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135160" y="3443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320880" y="384660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Select Encryp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034680" y="5715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Enter your passwor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466080" y="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0" t="14825" r="51393" b="26955"/>
          <a:stretch/>
        </p:blipFill>
        <p:spPr>
          <a:xfrm>
            <a:off x="533520" y="1447920"/>
            <a:ext cx="8001000" cy="52052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2895480" y="3276720"/>
            <a:ext cx="30481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62120" y="3048120"/>
            <a:ext cx="1523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819520" y="4114800"/>
            <a:ext cx="4038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059200" y="27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045400" y="29322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 Default IP is 192.168.1.25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92960" y="483696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. Default DHCP is Server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771640" y="6291360"/>
            <a:ext cx="1295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040280" y="6033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0" t="14423" r="45900" b="16578"/>
          <a:stretch/>
        </p:blipFill>
        <p:spPr>
          <a:xfrm>
            <a:off x="914400" y="1523880"/>
            <a:ext cx="7039080" cy="4876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31760" y="2500200"/>
            <a:ext cx="1371600" cy="23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971800" y="3962520"/>
            <a:ext cx="10666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19520" y="5943600"/>
            <a:ext cx="121896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3516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97360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745000" y="5562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"/>
          <p:cNvPicPr/>
          <p:nvPr/>
        </p:nvPicPr>
        <p:blipFill>
          <a:blip r:embed="rId1"/>
          <a:srcRect l="0" t="14423" r="51172" b="10107"/>
          <a:stretch/>
        </p:blipFill>
        <p:spPr>
          <a:xfrm>
            <a:off x="1190520" y="1447920"/>
            <a:ext cx="6353280" cy="5333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2590920"/>
            <a:ext cx="11430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048120" y="340056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048120" y="3886200"/>
            <a:ext cx="32763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971800" y="6477120"/>
            <a:ext cx="10666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50056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041440" y="29718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Select Client Mod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08120" y="405288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 Set a different name to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751120" y="6172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148920" y="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0" t="14423" r="54686" b="34908"/>
          <a:stretch/>
        </p:blipFill>
        <p:spPr>
          <a:xfrm>
            <a:off x="685800" y="1600200"/>
            <a:ext cx="7543800" cy="4583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557280" y="636120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: Skip this page if there is no encryption setup on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66680" y="3505320"/>
            <a:ext cx="10670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05320" y="3962520"/>
            <a:ext cx="2666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505320" y="5334120"/>
            <a:ext cx="4343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35160" y="3443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323760" y="384660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 Select same encryption as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31800" y="571500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 Same password as A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rcRect l="0" t="14423" r="51172" b="26283"/>
          <a:stretch/>
        </p:blipFill>
        <p:spPr>
          <a:xfrm>
            <a:off x="533520" y="1447920"/>
            <a:ext cx="8001000" cy="5278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148920" y="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895480" y="3276720"/>
            <a:ext cx="30481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3048120"/>
            <a:ext cx="15238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819520" y="4114800"/>
            <a:ext cx="4038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059200" y="270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043600" y="293220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 Set IP to 192.168.1.253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489000" y="48369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. Disable DHCP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1640" y="6291360"/>
            <a:ext cx="1295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040280" y="6033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miertek</dc:creator>
  <dc:description/>
  <dc:language>en-US</dc:language>
  <cp:lastModifiedBy>Luke</cp:lastModifiedBy>
  <dcterms:modified xsi:type="dcterms:W3CDTF">2011-11-10T18:29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