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395E-6709-4F74-A643-CAA5E8232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F98-18A2-4F60-A4E2-FA232D1E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B473-904C-483D-8D03-F7C18BE3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93F1-FDA6-4DB5-AAAE-7FFB217D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DC56-FAC2-4F63-BCAC-395AFA26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B11-0DDB-4561-A1BF-A1F969CF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E313-2634-4AC6-9E0C-63882B342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92D-0DF7-42B2-9B1E-96BC5DB0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B0C5-4F85-4319-B30D-3E7F75DD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411-5122-4444-AF4A-7F3FA499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6DB-7020-4B86-B226-663B9180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029-6127-4BB4-89EB-243BF3C6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C67E-EF74-4611-96C2-30392C4FE077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226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2-26T08:11:27Z</dcterms:modified>
  <cp:revision>91</cp:revision>
  <dc:subject/>
  <dc:title>投影片 1</dc:title>
</cp:coreProperties>
</file>